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828-5F7B-465A-9E71-5792D16F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A81-D899-470C-85D2-440851E9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1DE-1094-4C50-B889-BD9E54C8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EBE-6C75-4408-831A-0DFBE1C6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3BD-AE80-45DC-89A2-F633AE6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870-0CF5-49B2-AE50-6927FF2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BE9-59DD-4E5F-8207-54C12CB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5C1-D31E-4934-8668-FB6AC452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0F9-F1C2-4C8A-877C-8D0BD5DD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3B2-1ACF-4D16-8BAA-84B71C6E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DD4-716B-4981-A3EC-2246078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E0C-BBB2-4C3F-B512-2497A8C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03F3-58EB-44F3-90BA-0A8340E98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RAPHIC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RGANIZ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dnesday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y 1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55840" y="1789200"/>
            <a:ext cx="6232320" cy="3319200"/>
            <a:chOff x="1455840" y="1789200"/>
            <a:chExt cx="6232320" cy="3319200"/>
          </a:xfrm>
        </p:grpSpPr>
        <p:sp>
          <p:nvSpPr>
            <p:cNvPr id="116" name="_s12296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7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2298"/>
            <p:cNvSpPr/>
            <p:nvPr/>
          </p:nvSpPr>
          <p:spPr>
            <a:xfrm>
              <a:off x="4282920" y="3340080"/>
              <a:ext cx="168624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299"/>
            <p:cNvSpPr/>
            <p:nvPr/>
          </p:nvSpPr>
          <p:spPr>
            <a:xfrm>
              <a:off x="600228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0"/>
            <p:cNvSpPr/>
            <p:nvPr/>
          </p:nvSpPr>
          <p:spPr>
            <a:xfrm>
              <a:off x="3173400" y="333864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301"/>
            <p:cNvSpPr/>
            <p:nvPr/>
          </p:nvSpPr>
          <p:spPr>
            <a:xfrm>
              <a:off x="145584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33360" y="1789200"/>
            <a:ext cx="6677280" cy="4145040"/>
            <a:chOff x="1233360" y="1789200"/>
            <a:chExt cx="6677280" cy="4145040"/>
          </a:xfrm>
        </p:grpSpPr>
        <p:sp>
          <p:nvSpPr>
            <p:cNvPr id="124" name="_s24584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4585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4586"/>
            <p:cNvSpPr/>
            <p:nvPr/>
          </p:nvSpPr>
          <p:spPr>
            <a:xfrm>
              <a:off x="4181400" y="2565360"/>
              <a:ext cx="1685880" cy="168588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4587"/>
            <p:cNvSpPr/>
            <p:nvPr/>
          </p:nvSpPr>
          <p:spPr>
            <a:xfrm>
              <a:off x="5740560" y="2271600"/>
              <a:ext cx="1685880" cy="420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4588"/>
            <p:cNvSpPr/>
            <p:nvPr/>
          </p:nvSpPr>
          <p:spPr>
            <a:xfrm>
              <a:off x="4368960" y="3017880"/>
              <a:ext cx="1685880" cy="168588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4589"/>
            <p:cNvSpPr/>
            <p:nvPr/>
          </p:nvSpPr>
          <p:spPr>
            <a:xfrm>
              <a:off x="62247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4590"/>
            <p:cNvSpPr/>
            <p:nvPr/>
          </p:nvSpPr>
          <p:spPr>
            <a:xfrm>
              <a:off x="4181400" y="3470400"/>
              <a:ext cx="1685880" cy="16858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4591"/>
            <p:cNvSpPr/>
            <p:nvPr/>
          </p:nvSpPr>
          <p:spPr>
            <a:xfrm>
              <a:off x="5740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4592"/>
            <p:cNvSpPr/>
            <p:nvPr/>
          </p:nvSpPr>
          <p:spPr>
            <a:xfrm>
              <a:off x="3728880" y="3657600"/>
              <a:ext cx="1686240" cy="168588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4593"/>
            <p:cNvSpPr/>
            <p:nvPr/>
          </p:nvSpPr>
          <p:spPr>
            <a:xfrm>
              <a:off x="3728880" y="5513400"/>
              <a:ext cx="1686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hl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4594"/>
            <p:cNvSpPr/>
            <p:nvPr/>
          </p:nvSpPr>
          <p:spPr>
            <a:xfrm>
              <a:off x="3276720" y="3470400"/>
              <a:ext cx="168588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4595"/>
            <p:cNvSpPr/>
            <p:nvPr/>
          </p:nvSpPr>
          <p:spPr>
            <a:xfrm>
              <a:off x="1717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4596"/>
            <p:cNvSpPr/>
            <p:nvPr/>
          </p:nvSpPr>
          <p:spPr>
            <a:xfrm>
              <a:off x="3089160" y="3017880"/>
              <a:ext cx="168588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4597"/>
            <p:cNvSpPr/>
            <p:nvPr/>
          </p:nvSpPr>
          <p:spPr>
            <a:xfrm>
              <a:off x="12333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4598"/>
            <p:cNvSpPr/>
            <p:nvPr/>
          </p:nvSpPr>
          <p:spPr>
            <a:xfrm>
              <a:off x="3276720" y="256536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4599"/>
            <p:cNvSpPr/>
            <p:nvPr/>
          </p:nvSpPr>
          <p:spPr>
            <a:xfrm>
              <a:off x="1717560" y="2271600"/>
              <a:ext cx="1685880" cy="420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42" name="_s26636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6637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6634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6635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6632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6633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50" name="_s14348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4349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4346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4347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cie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4344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4345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 Pro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5" name="_s1639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6397"/>
            <p:cNvCxnSpPr>
              <a:stCxn id="49" idx="0"/>
              <a:endCxn id="47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6396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6392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6393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6394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6395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880" cy="4937760"/>
            <a:chOff x="457200" y="1614600"/>
            <a:chExt cx="8228880" cy="4937760"/>
          </a:xfrm>
        </p:grpSpPr>
        <p:cxnSp>
          <p:nvCxnSpPr>
            <p:cNvPr id="54" name="_s3094"/>
            <p:cNvCxnSpPr>
              <a:stCxn id="55" idx="3"/>
              <a:endCxn id="56" idx="2"/>
            </p:cNvCxnSpPr>
            <p:nvPr/>
          </p:nvCxnSpPr>
          <p:spPr>
            <a:xfrm flipV="1">
              <a:off x="7040520" y="4699800"/>
              <a:ext cx="411840" cy="123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91"/>
            <p:cNvCxnSpPr>
              <a:stCxn id="58" idx="0"/>
              <a:endCxn id="59" idx="2"/>
            </p:cNvCxnSpPr>
            <p:nvPr/>
          </p:nvCxnSpPr>
          <p:spPr>
            <a:xfrm flipV="1">
              <a:off x="1690920" y="470016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089"/>
            <p:cNvCxnSpPr>
              <a:stCxn id="56" idx="0"/>
              <a:endCxn id="61" idx="2"/>
            </p:cNvCxnSpPr>
            <p:nvPr/>
          </p:nvCxnSpPr>
          <p:spPr>
            <a:xfrm flipV="1" rot="16200000">
              <a:off x="5702760" y="171684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088"/>
            <p:cNvCxnSpPr>
              <a:stCxn id="63" idx="0"/>
              <a:endCxn id="61" idx="2"/>
            </p:cNvCxnSpPr>
            <p:nvPr/>
          </p:nvCxnSpPr>
          <p:spPr>
            <a:xfrm flipV="1">
              <a:off x="4571280" y="284868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087"/>
            <p:cNvCxnSpPr>
              <a:stCxn id="59" idx="0"/>
              <a:endCxn id="61" idx="2"/>
            </p:cNvCxnSpPr>
            <p:nvPr/>
          </p:nvCxnSpPr>
          <p:spPr>
            <a:xfrm flipH="1" flipV="1" rot="5400000">
              <a:off x="2822400" y="171720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3083"/>
            <p:cNvSpPr/>
            <p:nvPr/>
          </p:nvSpPr>
          <p:spPr>
            <a:xfrm>
              <a:off x="3337200" y="161460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4"/>
            <p:cNvSpPr/>
            <p:nvPr/>
          </p:nvSpPr>
          <p:spPr>
            <a:xfrm>
              <a:off x="45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333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86"/>
            <p:cNvSpPr/>
            <p:nvPr/>
          </p:nvSpPr>
          <p:spPr>
            <a:xfrm>
              <a:off x="621756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0"/>
            <p:cNvSpPr/>
            <p:nvPr/>
          </p:nvSpPr>
          <p:spPr>
            <a:xfrm>
              <a:off x="45720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UBORDIN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3"/>
            <p:cNvSpPr/>
            <p:nvPr/>
          </p:nvSpPr>
          <p:spPr>
            <a:xfrm>
              <a:off x="457164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67" name="_s18442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3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5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0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1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44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75" name="_s6154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5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3399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52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3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83" name="_s20494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493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492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491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490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489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48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52840" y="1713240"/>
            <a:ext cx="3838320" cy="3479400"/>
            <a:chOff x="2652840" y="1713240"/>
            <a:chExt cx="3838320" cy="3479400"/>
          </a:xfrm>
        </p:grpSpPr>
        <p:sp>
          <p:nvSpPr>
            <p:cNvPr id="92" name="_s8206"/>
            <p:cNvSpPr/>
            <p:nvPr/>
          </p:nvSpPr>
          <p:spPr>
            <a:xfrm flipH="1">
              <a:off x="3647880" y="4120920"/>
              <a:ext cx="46188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5"/>
            <p:cNvSpPr/>
            <p:nvPr/>
          </p:nvSpPr>
          <p:spPr>
            <a:xfrm>
              <a:off x="265284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thle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204"/>
            <p:cNvSpPr/>
            <p:nvPr/>
          </p:nvSpPr>
          <p:spPr>
            <a:xfrm>
              <a:off x="5032440" y="4122720"/>
              <a:ext cx="46332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03"/>
            <p:cNvSpPr/>
            <p:nvPr/>
          </p:nvSpPr>
          <p:spPr>
            <a:xfrm>
              <a:off x="542448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2"/>
            <p:cNvSpPr/>
            <p:nvPr/>
          </p:nvSpPr>
          <p:spPr>
            <a:xfrm flipV="1">
              <a:off x="4572000" y="2783160"/>
              <a:ext cx="0" cy="53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1"/>
            <p:cNvSpPr/>
            <p:nvPr/>
          </p:nvSpPr>
          <p:spPr>
            <a:xfrm>
              <a:off x="4038480" y="1713240"/>
              <a:ext cx="106704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cade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0"/>
            <p:cNvSpPr/>
            <p:nvPr/>
          </p:nvSpPr>
          <p:spPr>
            <a:xfrm>
              <a:off x="4038480" y="3319920"/>
              <a:ext cx="1067040" cy="1070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38080" y="2209680"/>
            <a:ext cx="121932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36840" y="2013120"/>
            <a:ext cx="4270320" cy="3698640"/>
            <a:chOff x="2436840" y="2013120"/>
            <a:chExt cx="4270320" cy="3698640"/>
          </a:xfrm>
        </p:grpSpPr>
        <p:sp>
          <p:nvSpPr>
            <p:cNvPr id="103" name="_s22536"/>
            <p:cNvSpPr/>
            <p:nvPr/>
          </p:nvSpPr>
          <p:spPr>
            <a:xfrm flipV="1">
              <a:off x="3860640" y="2013120"/>
              <a:ext cx="1422720" cy="1233360"/>
            </a:xfrm>
            <a:custGeom>
              <a:avLst/>
              <a:gdLst>
                <a:gd name="textAreaLeft" fmla="*/ 510480 w 1422720"/>
                <a:gd name="textAreaRight" fmla="*/ 912240 w 1422720"/>
                <a:gd name="textAreaTop" fmla="*/ 442440 h 1233360"/>
                <a:gd name="textAreaBottom" fmla="*/ 7909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2537"/>
            <p:cNvSpPr/>
            <p:nvPr/>
          </p:nvSpPr>
          <p:spPr>
            <a:xfrm flipV="1">
              <a:off x="3147840" y="3246480"/>
              <a:ext cx="2848320" cy="1231920"/>
            </a:xfrm>
            <a:custGeom>
              <a:avLst/>
              <a:gdLst>
                <a:gd name="textAreaLeft" fmla="*/ 626400 w 2848320"/>
                <a:gd name="textAreaRight" fmla="*/ 2221920 w 2848320"/>
                <a:gd name="textAreaTop" fmla="*/ 270720 h 1231920"/>
                <a:gd name="textAreaBottom" fmla="*/ 961200 h 12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2538"/>
            <p:cNvSpPr/>
            <p:nvPr/>
          </p:nvSpPr>
          <p:spPr>
            <a:xfrm flipV="1">
              <a:off x="2436840" y="4478400"/>
              <a:ext cx="4270320" cy="1233360"/>
            </a:xfrm>
            <a:custGeom>
              <a:avLst/>
              <a:gdLst>
                <a:gd name="textAreaLeft" fmla="*/ 741240 w 4270320"/>
                <a:gd name="textAreaRight" fmla="*/ 3529080 w 4270320"/>
                <a:gd name="textAreaTop" fmla="*/ 213840 h 1233360"/>
                <a:gd name="textAreaBottom" fmla="*/ 10195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436840" y="2012760"/>
            <a:ext cx="4270320" cy="3698640"/>
            <a:chOff x="2436840" y="2012760"/>
            <a:chExt cx="4270320" cy="3698640"/>
          </a:xfrm>
        </p:grpSpPr>
        <p:sp>
          <p:nvSpPr>
            <p:cNvPr id="108" name="_s10248"/>
            <p:cNvSpPr/>
            <p:nvPr/>
          </p:nvSpPr>
          <p:spPr>
            <a:xfrm flipV="1">
              <a:off x="4216320" y="2012400"/>
              <a:ext cx="711360" cy="615960"/>
            </a:xfrm>
            <a:custGeom>
              <a:avLst/>
              <a:gdLst>
                <a:gd name="textAreaLeft" fmla="*/ 255240 w 711360"/>
                <a:gd name="textAreaRight" fmla="*/ 456120 w 711360"/>
                <a:gd name="textAreaTop" fmla="*/ 221040 h 615960"/>
                <a:gd name="textAreaBottom" fmla="*/ 3949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1"/>
            <p:cNvSpPr/>
            <p:nvPr/>
          </p:nvSpPr>
          <p:spPr>
            <a:xfrm flipV="1">
              <a:off x="3860640" y="2628360"/>
              <a:ext cx="1422720" cy="617400"/>
            </a:xfrm>
            <a:custGeom>
              <a:avLst/>
              <a:gdLst>
                <a:gd name="textAreaLeft" fmla="*/ 312840 w 1422720"/>
                <a:gd name="textAreaRight" fmla="*/ 1109880 w 1422720"/>
                <a:gd name="textAreaTop" fmla="*/ 135720 h 617400"/>
                <a:gd name="textAreaBottom" fmla="*/ 48168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252"/>
            <p:cNvSpPr/>
            <p:nvPr/>
          </p:nvSpPr>
          <p:spPr>
            <a:xfrm flipV="1">
              <a:off x="3505320" y="3245760"/>
              <a:ext cx="2133360" cy="615960"/>
            </a:xfrm>
            <a:custGeom>
              <a:avLst/>
              <a:gdLst>
                <a:gd name="textAreaLeft" fmla="*/ 370080 w 2133360"/>
                <a:gd name="textAreaRight" fmla="*/ 1763280 w 2133360"/>
                <a:gd name="textAreaTop" fmla="*/ 106920 h 615960"/>
                <a:gd name="textAreaBottom" fmla="*/ 5090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3"/>
            <p:cNvSpPr/>
            <p:nvPr/>
          </p:nvSpPr>
          <p:spPr>
            <a:xfrm flipV="1">
              <a:off x="3147840" y="3861720"/>
              <a:ext cx="2848320" cy="615960"/>
            </a:xfrm>
            <a:custGeom>
              <a:avLst/>
              <a:gdLst>
                <a:gd name="textAreaLeft" fmla="*/ 428400 w 2848320"/>
                <a:gd name="textAreaRight" fmla="*/ 2419920 w 2848320"/>
                <a:gd name="textAreaTop" fmla="*/ 92520 h 615960"/>
                <a:gd name="textAreaBottom" fmla="*/ 5234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ff3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249"/>
            <p:cNvSpPr/>
            <p:nvPr/>
          </p:nvSpPr>
          <p:spPr>
            <a:xfrm flipV="1">
              <a:off x="2792520" y="4477680"/>
              <a:ext cx="3558960" cy="615960"/>
            </a:xfrm>
            <a:custGeom>
              <a:avLst/>
              <a:gdLst>
                <a:gd name="textAreaLeft" fmla="*/ 486000 w 3558960"/>
                <a:gd name="textAreaRight" fmla="*/ 3072960 w 3558960"/>
                <a:gd name="textAreaTop" fmla="*/ 83880 h 615960"/>
                <a:gd name="textAreaBottom" fmla="*/ 53208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0"/>
            <p:cNvSpPr/>
            <p:nvPr/>
          </p:nvSpPr>
          <p:spPr>
            <a:xfrm flipV="1">
              <a:off x="2436840" y="5093640"/>
              <a:ext cx="4270320" cy="617400"/>
            </a:xfrm>
            <a:custGeom>
              <a:avLst/>
              <a:gdLst>
                <a:gd name="textAreaLeft" fmla="*/ 543600 w 4270320"/>
                <a:gd name="textAreaRight" fmla="*/ 3726720 w 4270320"/>
                <a:gd name="textAreaTop" fmla="*/ 78480 h 617400"/>
                <a:gd name="textAreaBottom" fmla="*/ 53892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09:37Z</dcterms:created>
  <dc:creator>buppkat</dc:creator>
  <dc:description/>
  <dc:language>en-US</dc:language>
  <cp:lastModifiedBy>buppkat</cp:lastModifiedBy>
  <dcterms:modified xsi:type="dcterms:W3CDTF">2010-05-18T18:54:42Z</dcterms:modified>
  <cp:revision>9</cp:revision>
  <dc:subject/>
  <dc:title>GRAPHIC  ORGANIZERS</dc:title>
</cp:coreProperties>
</file>